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5EEC6-54E5-44C9-8B7E-4C2CA5721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0ADB6-C23F-4494-AB90-D6AB25F16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D5D26-4808-41A7-8C5E-80DFE5DF1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59B4A-36A7-47B5-A38D-B654B6142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7C971-1F3E-4EC8-9705-5ED9CDEA5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434E6-2368-4711-96EA-B9F553E38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29DAF-BDB7-41A0-B7B2-1057F6674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07D82-BD9A-4461-8383-BDE106A33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7F8BD-E805-42E9-AD84-3D122DF60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E21FA-6DB6-456B-9575-5307173CE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D11C9-7617-4DCE-A7A0-7267341B6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869C7-8536-4773-9201-C922E18B9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6C957-2DDE-4530-8FB7-B82FE6530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4CD4F-2A1D-441C-920D-CCF9E014A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54567-43D7-4F2D-8975-91C9B1560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F83EE-B9F4-4711-9E29-71762307C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0B202-D4E8-4805-B135-AC1187F17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DFB4F-29DF-4D7D-9B55-AD7D378D8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7C8E1-46D4-43AE-BA53-CD78C6A5B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40240-CCD4-4056-9247-116A80935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FBD38-A6AE-4CE0-BB5A-8E024E369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F250-E96F-469F-B2F1-1C86B07F2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B1068-A2AE-4141-92D1-F76F11D65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33606-E2C5-4F56-BD7C-8408DABAC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3FE1-2798-4603-8A68-E510578DE13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19A7-A3AC-431D-A9C6-0067AA8BA872}"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arm-Up Sentences</a:t>
            </a:r>
            <a:endParaRPr b="0" lang="en-US" sz="4400" spc="-1" strike="noStrike">
              <a:solidFill>
                <a:srgbClr val="ffffcc"/>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81 baseball players gone on strike for seven weaks, and seven hundred thirteen games across the country were cancel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e rose retired, in 1985, with 4256 hits to his credit</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Journal #13</a:t>
            </a:r>
            <a:endParaRPr b="0" lang="en-US" sz="5400" spc="-1" strike="noStrike">
              <a:solidFill>
                <a:srgbClr val="ffffcc"/>
              </a:solidFill>
              <a:latin typeface="Tahoma"/>
            </a:endParaRPr>
          </a:p>
        </p:txBody>
      </p:sp>
      <p:sp>
        <p:nvSpPr>
          <p:cNvPr id="9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e Wr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arm-Up Sentences</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n essay entitled Why We Still Can’t Wait Coretta Scott King wrote If the alternative to full employment is simply to wait to tolerate in silence the shattered dreams of jobless youth and the broken hearts of laid off men then my choice is clea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rge Bernard Shaw once said If you cannot get rid of the family skeletons you may as well make them d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380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Journal #14</a:t>
            </a:r>
            <a:endParaRPr b="0" lang="en-US" sz="5400" spc="-1" strike="noStrike">
              <a:solidFill>
                <a:srgbClr val="ffffcc"/>
              </a:solidFill>
              <a:latin typeface="Tahoma"/>
            </a:endParaRPr>
          </a:p>
        </p:txBody>
      </p:sp>
      <p:sp>
        <p:nvSpPr>
          <p:cNvPr id="95" name="PlaceHolder 2"/>
          <p:cNvSpPr>
            <a:spLocks noGrp="1"/>
          </p:cNvSpPr>
          <p:nvPr>
            <p:ph type="subTitle"/>
          </p:nvPr>
        </p:nvSpPr>
        <p:spPr>
          <a:xfrm>
            <a:off x="1219320" y="2819520"/>
            <a:ext cx="6400800" cy="22860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one object in the classroom and write 5 descriptive phrases about that object.  Do not identify the object.  Your classmates will try and guess your obje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Friday Warm-up</a:t>
            </a:r>
            <a:endParaRPr b="0" lang="en-US" sz="5400" spc="-1" strike="noStrike">
              <a:solidFill>
                <a:srgbClr val="ffffcc"/>
              </a:solidFill>
              <a:latin typeface="Tahoma"/>
            </a:endParaRPr>
          </a:p>
        </p:txBody>
      </p:sp>
      <p:sp>
        <p:nvSpPr>
          <p:cNvPr id="97" name="PlaceHolder 2"/>
          <p:cNvSpPr>
            <a:spLocks noGrp="1"/>
          </p:cNvSpPr>
          <p:nvPr>
            <p:ph type="subTitle"/>
          </p:nvPr>
        </p:nvSpPr>
        <p:spPr>
          <a:xfrm>
            <a:off x="228240" y="1676160"/>
            <a:ext cx="8915400" cy="19047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1" lang="en-US" sz="2800" spc="-1" strike="noStrike">
                <a:solidFill>
                  <a:srgbClr val="ffffff"/>
                </a:solidFill>
                <a:latin typeface="Tahoma"/>
              </a:rPr>
              <a:t>noun</a:t>
            </a:r>
            <a:r>
              <a:rPr b="0" lang="en-US" sz="2800" spc="-1" strike="noStrike">
                <a:solidFill>
                  <a:srgbClr val="ffffff"/>
                </a:solidFill>
                <a:latin typeface="Tahoma"/>
              </a:rPr>
              <a:t> names a person, a place, a thing, or an idea.  A </a:t>
            </a:r>
            <a:r>
              <a:rPr b="1" lang="en-US" sz="2800" spc="-1" strike="noStrike">
                <a:solidFill>
                  <a:srgbClr val="ffffff"/>
                </a:solidFill>
                <a:latin typeface="Tahoma"/>
              </a:rPr>
              <a:t>common noun</a:t>
            </a:r>
            <a:r>
              <a:rPr b="0" lang="en-US" sz="2800" spc="-1" strike="noStrike">
                <a:solidFill>
                  <a:srgbClr val="ffffff"/>
                </a:solidFill>
                <a:latin typeface="Tahoma"/>
              </a:rPr>
              <a:t> names any person, place, thing, or idea (school, town, singer).  A </a:t>
            </a:r>
            <a:r>
              <a:rPr b="1" lang="en-US" sz="2800" spc="-1" strike="noStrike">
                <a:solidFill>
                  <a:srgbClr val="ffffff"/>
                </a:solidFill>
                <a:latin typeface="Tahoma"/>
              </a:rPr>
              <a:t>proper noun</a:t>
            </a:r>
            <a:r>
              <a:rPr b="0" lang="en-US" sz="2800" spc="-1" strike="noStrike">
                <a:solidFill>
                  <a:srgbClr val="ffffff"/>
                </a:solidFill>
                <a:latin typeface="Tahoma"/>
              </a:rPr>
              <a:t> names a specific person, place, thing, or idea (Hughes Middle School, Los Angeles, Britney Spears).</a:t>
            </a:r>
            <a:endParaRPr b="0" lang="en-US" sz="2800" spc="-1" strike="noStrike">
              <a:solidFill>
                <a:srgbClr val="ffffff"/>
              </a:solidFill>
              <a:latin typeface="Tahoma"/>
            </a:endParaRPr>
          </a:p>
        </p:txBody>
      </p:sp>
      <p:sp>
        <p:nvSpPr>
          <p:cNvPr id="98" name=""/>
          <p:cNvSpPr/>
          <p:nvPr/>
        </p:nvSpPr>
        <p:spPr>
          <a:xfrm>
            <a:off x="228600" y="4114800"/>
            <a:ext cx="861048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List five common nouns related to objects in your classroom.</a:t>
            </a:r>
            <a:endParaRPr b="0" lang="en-US" sz="2200" spc="-1" strike="noStrike">
              <a:solidFill>
                <a:srgbClr val="ffffff"/>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n list five proper nouns related to your classroom.</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6:44:53Z</dcterms:created>
  <dc:creator>tpagel</dc:creator>
  <dc:description/>
  <dc:language>en-US</dc:language>
  <cp:lastModifiedBy>tpagel</cp:lastModifiedBy>
  <dcterms:modified xsi:type="dcterms:W3CDTF">2010-06-03T16:45:16Z</dcterms:modified>
  <cp:revision>1</cp:revision>
  <dc:subject/>
  <dc:title>Warm-Up Sentences</dc:title>
</cp:coreProperties>
</file>